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7CC8-E7B9-43AB-A4BE-769D939D7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EBEE-7927-466C-A0FC-34EA6D5D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BC46-3768-4D5D-AFF1-28BB95422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2634-3207-45EC-A6BE-FF6B86106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6310-03FB-4FC0-8BB3-ABDBE718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C281-E847-4F34-B3A1-95C0DBFD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CC0A-40C8-4A91-8EF6-ABFAF255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613B-0EB4-4046-AD68-8CA12E85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5956-219D-4323-B38D-F91FE5A6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4E62-F276-41A9-A72E-67A94039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F414-8A58-4D8A-93FE-43CCF962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24CD-9A3B-4755-9B6D-0F18183C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8682-55C7-406C-B0E5-550F86C60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9480" y="457200"/>
          <a:ext cx="807732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57200"/>
                    <a:ext cx="80773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P POLLUTING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y Google logo is stop polluting. In the future the worlds air might change color. I Want my logo to mean “We might not have clean air soon so STOP pollu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5:49:37Z</dcterms:created>
  <dc:creator>Computer Lab</dc:creator>
  <dc:description/>
  <dc:language>en-US</dc:language>
  <cp:lastModifiedBy>Computer Lab</cp:lastModifiedBy>
  <dcterms:modified xsi:type="dcterms:W3CDTF">2009-03-12T15:42:04Z</dcterms:modified>
  <cp:revision>1</cp:revision>
  <dc:subject/>
  <dc:title>Slide 1</dc:title>
</cp:coreProperties>
</file>